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09B8-00A3-4899-8A9E-4019B08EA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CFB4-E0C3-447B-AD82-80A536E9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3B63-E9F7-4732-A23D-E9606029F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0A70-707A-4ABE-9A60-33538C356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8EC60-92A0-4B27-BC54-10E3CFF43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2F67-B69E-4050-9DD9-C085ABF1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D425-9DA8-4250-88CF-CCFB8AB4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95273-1C67-4D9C-83FC-29AB9009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4B5A-DD1C-4592-9058-64A9792F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15B7C-2E77-46C1-B0C7-0291D25C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CE6E-2294-4023-BC6F-E16273AF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4A21-313D-40D9-9ED1-100B064D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54C3-C3B2-407F-8F6B-B5140206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D0FF-AC77-4BCF-B167-73BFA948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B897-25DE-4EFC-9B80-46B4C977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C45F-9ABD-4B5E-BD71-ED29A0698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B5BD-442D-4278-9A03-94B7067F8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134C3-311B-4B54-BFAF-E3F493186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0B77D-5D40-45C6-BCA4-655AA621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DF900-D6C4-4FBD-BF1A-92154910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5FB3F-A637-49BA-BCB1-D83DA1F7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19F77-A3D2-4FE3-A655-E2508379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B9E4-F114-403E-8C9C-36F02E5A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5423E-9018-487B-98A5-F8FF81B3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AFF11-6986-41AE-AD9F-385DD891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17A3B-797C-4618-AC6A-85A5596A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6ECAB-C644-4CCE-9A99-169212C2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E8E2C-27B7-4F99-BF0F-F234534A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4DD67-8C71-4162-82F4-842A9E4AE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11FD1-BA0A-4049-9048-D29C69446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EFBAE-E3DD-4A7E-991A-0BC45A67B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478FC-48C1-477A-8FFD-29A15086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53022-48DF-45CF-B018-F8121F90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33FE-1304-4AFE-876C-B9C0D947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5BD70-71E2-45D2-8B08-FC8F6BBC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E5F72-09C6-4C27-836A-0E404B56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126E8-4696-4DF9-92A8-B2B09BC3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86091-1D58-4882-8BE9-0C5C5307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3EFAE-DABB-45D0-A06A-D86C5A9C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4B8AA-4FA7-45F8-8E5D-283864DD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16256-4CE6-4909-9B16-D01C464C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97869-0B05-4E1A-B4A7-6ABAE33ED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9E235-9D27-491B-8A2F-EB095F424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D7AC5-8D53-4FED-AADE-778F08085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0348-0E2D-4E33-8B8F-04A75D36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96058-8932-48B3-8AFC-2D060E41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C12BB-8642-49AA-8144-F5878D35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F70F6-1C09-45E3-A9E9-6FB933E2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C0846-7898-42FE-8943-F8C8ABB6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CD084-6B00-4162-A97B-3B7A33FB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55172-D51E-4A9E-9BDD-690F8AD8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7C0BA-D408-48DF-99C8-56A1F3FC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A87E0-654E-4B46-BD9C-66FD9A76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1634D-12D9-4F0C-8E3A-B62F125B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2A679-4395-40AB-9F30-6FFA7AE58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984C-477A-4921-BB29-DBC12376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72022-8498-4692-8AB4-07BE8E705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53A82-8899-4BEB-9B28-7CCB42810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3D022-3096-4B04-B040-31A1E398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35471-E410-46CF-9C83-155C6C1B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261B8-A50A-4D5C-A454-89DBF7DD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03B7B-11CC-4AD8-91C8-F0F80E99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5AB50-1DD7-4FA4-8825-6B40A416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AA5AF-11E2-4599-8DB1-0D189802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5A62E-BEAD-4579-9A7C-DDD13F6B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B28F4-7EF2-48C0-BFEB-D8A802D8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99C8-7C45-4BBA-92C3-1CEFC1BD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F3BED-F535-4BAE-9DA3-147A5ED9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F0E71-D376-41A6-B365-63F435209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2FFF3-FF0B-403D-B93E-FD7DF15E3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A480-AEE2-431F-8213-3AA243BF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6FD7-9540-43F4-BEC7-947DF1DB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D97D-AAD3-417D-A671-4251AE91E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519F-B97B-4FE2-B7B1-4F8506B6E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6C08-6119-4336-8648-1B393F2ACC0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7DDD-EE92-41C7-B090-750E0A087D3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83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84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87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6719-43C0-42B0-9529-60BBE7B2AB04}" type="slidenum">
              <a:rPr b="1" lang="en-US" sz="26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31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34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8A7C-48C1-4F06-9D9D-BBD39F180F0A}" type="slidenum">
              <a:rPr b="1" lang="en-US" sz="26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Клеточная теория строения организмов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II. Этап</a:t>
            </a:r>
            <a:br>
              <a:rPr sz="3200"/>
            </a:b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Развитие клеточной теор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Карл Максимович Бэр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3276720" y="1557360"/>
          <a:ext cx="2449440" cy="29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557360"/>
                    <a:ext cx="2449440" cy="29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4584240"/>
            <a:ext cx="822960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827 год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ткрыл яйцеклетку млекопитающих. Сформулировал положение, что клетка не только единица строения, но и единица развития живых организм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54880" y="98100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792 – 187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Рудольф Вирхов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3419640" y="1484280"/>
          <a:ext cx="2228760" cy="30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484280"/>
                    <a:ext cx="222876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4723920"/>
            <a:ext cx="8229600" cy="14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855 год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босновал принцип преемственности клеток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"каждая клетка из клетки"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924360" y="1268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54880" y="98100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821 – 190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Современная клеточная теория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) Клетка представляет собой основу структурной и функциональной организации растений и животны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) Клетки растений и животных сходны по строению и развиваются аналогично (путем деления исходной клетки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) Клетки у всех организмов имеют мембранное строе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) Ядро клетки представляет ее главный регуляторный органои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) Клеточное строение живых организмов — свидетельство единства их происхожд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4920" y="765000"/>
            <a:ext cx="8396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15920" indent="-1015920" algn="ctr">
              <a:lnSpc>
                <a:spcPct val="90000"/>
              </a:lnSpc>
              <a:buClr>
                <a:srgbClr val="ff33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Этап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Зарождение понятий о клетке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Роберт Гук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492360" y="1557360"/>
          <a:ext cx="2011680" cy="25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557360"/>
                    <a:ext cx="201168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665 год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публиковал труд "Микрография", где изложил результаты своих исследований. Рассматривая тонкий срез пробки под микроскопом, он обнаружил существование множества мелких ячеек и назвал их "клетками". Так возник этот терми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78560" y="981000"/>
            <a:ext cx="1421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635-170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Антони ван Левенгук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203640" y="1628640"/>
          <a:ext cx="249876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628640"/>
                    <a:ext cx="249876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443664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3300"/>
                </a:solidFill>
                <a:latin typeface="Arial"/>
              </a:rPr>
              <a:t>1680 год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писал с большой точностью, наблюдаемые под микроскопом микроорганизмы. Он назвал их "микроскопическими животными", однако не отмечал их клеточного стро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637800" y="1125360"/>
            <a:ext cx="1741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632  - 1723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I. Этап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Возникновение клеточной теор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Роберт Броун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419640" y="1628640"/>
          <a:ext cx="2431800" cy="32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628640"/>
                    <a:ext cx="243180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508752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858 год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первые описал ядро в растительной клетке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54520" y="119700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773 – 1858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Маттиас Шлейден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3348000" y="1557360"/>
          <a:ext cx="2781360" cy="33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557360"/>
                    <a:ext cx="2781360" cy="33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508464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838 год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делал первые шаги к раскрытию и пониманию роли яд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4880" y="105264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804 – 188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Теодор Шванн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3348000" y="1484280"/>
          <a:ext cx="227484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484280"/>
                    <a:ext cx="227484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4365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3300"/>
                </a:solidFill>
                <a:latin typeface="Arial"/>
              </a:rPr>
              <a:t>1839 год</a:t>
            </a: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спользуя свои собственные данные и результаты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. Шлейдена, обобщил знания о клетке и сформулировал клеточную теорию. Основное положение этой теории: клетка является элементарной единицей строения всех растительных и животных организмов. 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854880" y="1125360"/>
            <a:ext cx="1599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810 – 188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Клеточная теория</a:t>
            </a:r>
            <a:br>
              <a:rPr sz="4200"/>
            </a:b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 Шванна - Шлейдена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Всем животным и растениям свойственно клеточное стро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Растут и развиваются растения и животные путем возникновения новых клеток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Клетка является самой маленькой единицей живого, а целый организм – совокупность клеток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0:56:21Z</dcterms:created>
  <dc:creator>IPATOV</dc:creator>
  <dc:description/>
  <dc:language>en-US</dc:language>
  <cp:lastModifiedBy>IPATOV</cp:lastModifiedBy>
  <dcterms:modified xsi:type="dcterms:W3CDTF">2007-01-11T11:25:24Z</dcterms:modified>
  <cp:revision>6</cp:revision>
  <dc:subject/>
  <dc:title>Клеточная теория строения организмов</dc:title>
</cp:coreProperties>
</file>